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CA50-72FF-4744-8BF4-B6B3B070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8E3D-F41F-4A5F-80A2-1D51D3D4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D6BE-79F1-4082-97A3-E2F2F871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2294-61A5-48D9-85A6-C7796D4D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2A39-17F9-4BEB-AFC0-921D01B1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9B13-7D65-4462-9D10-C4AD072C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3B41-CAD5-4CA7-99C1-F073E1E5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5B5C-C449-4EA5-977C-8D215F58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412A-59AC-4C78-AEE4-B2B7C9A4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1DE0-2FE2-4F9F-8142-ABF0DBD2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E90F-5C55-423D-997D-28800A1E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8FC3-87D4-450E-9D3F-64276E64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B26F-C533-49B7-8056-BB126B0A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3BA9-870E-416B-BE98-BE41FE2E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CF40-E9BC-4A2A-9472-649B16C1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510B-296A-4ED7-8336-F611B50A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8CA0-97D7-44CE-B106-B870F914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0213-F880-4826-8830-FEAA64FA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5F52-BD29-4FCB-AB91-BBD54BB0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EBC5-68B6-4662-B3A5-34C1469A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1F52-C05D-4F71-83F3-3E3F1EFC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0190-7FE6-4ADD-A1AF-66A87B96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452A-12B5-4851-A07B-C645B5C6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E13E-AC83-40C9-9900-C011D5A1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3333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убровская №2 СОШ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47B4-03C8-41AF-9539-81FB1600804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3333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убровская №2 СОШ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C995-1001-4BDC-AE08-E72BD07B510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image" Target="../media/image11.jpeg"/><Relationship Id="rId5" Type="http://schemas.openxmlformats.org/officeDocument/2006/relationships/image" Target="../media/image13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Линзы.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птическая сила линзы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8" descr="PE01460_"/>
          <p:cNvPicPr/>
          <p:nvPr/>
        </p:nvPicPr>
        <p:blipFill>
          <a:blip r:embed="rId1"/>
          <a:stretch/>
        </p:blipFill>
        <p:spPr>
          <a:xfrm>
            <a:off x="7380360" y="260280"/>
            <a:ext cx="1181160" cy="1467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1928880" y="4143240"/>
            <a:ext cx="5072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физики  МБОУ Дубровской №1 СОШ им. генерал-майора Никитина И.С. Пгт Дубровка, Дубровского райо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ян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овьев Анатолий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1937-36D9-4163-AD26-BFEE3FB3D74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547640" y="162864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арактеристики линз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2340000" y="2492280"/>
            <a:ext cx="4176720" cy="936720"/>
            <a:chOff x="2340000" y="2492280"/>
            <a:chExt cx="4176720" cy="936720"/>
          </a:xfrm>
        </p:grpSpPr>
        <p:sp>
          <p:nvSpPr>
            <p:cNvPr id="189" name="Line 7"/>
            <p:cNvSpPr/>
            <p:nvPr/>
          </p:nvSpPr>
          <p:spPr>
            <a:xfrm flipH="1">
              <a:off x="2340000" y="2492280"/>
              <a:ext cx="180000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8"/>
            <p:cNvSpPr/>
            <p:nvPr/>
          </p:nvSpPr>
          <p:spPr>
            <a:xfrm>
              <a:off x="4572000" y="2492280"/>
              <a:ext cx="194472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Text Box 9"/>
          <p:cNvSpPr/>
          <p:nvPr/>
        </p:nvSpPr>
        <p:spPr>
          <a:xfrm>
            <a:off x="250920" y="364500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кусное расстоя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5003640" y="3645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тическая си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694D-2AA8-4B27-A0E9-7596F0F7939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10"/>
          <p:cNvPicPr/>
          <p:nvPr/>
        </p:nvPicPr>
        <p:blipFill>
          <a:blip r:embed="rId1"/>
          <a:stretch/>
        </p:blipFill>
        <p:spPr>
          <a:xfrm>
            <a:off x="2143080" y="1571760"/>
            <a:ext cx="4551480" cy="48355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900000" y="260280"/>
            <a:ext cx="705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лавная и побочная оптические ос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9D5C-E8E0-41E1-8ECC-692242F7F85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2. Как называется каждая из линз, изображенных на рисунке?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 каждый правильный ответ – 1 балл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15"/>
          <p:cNvGrpSpPr/>
          <p:nvPr/>
        </p:nvGrpSpPr>
        <p:grpSpPr>
          <a:xfrm>
            <a:off x="1332000" y="3141720"/>
            <a:ext cx="698400" cy="2331360"/>
            <a:chOff x="1332000" y="3141720"/>
            <a:chExt cx="698400" cy="2331360"/>
          </a:xfrm>
        </p:grpSpPr>
        <p:pic>
          <p:nvPicPr>
            <p:cNvPr id="199" name="Picture 8" descr="15"/>
            <p:cNvPicPr/>
            <p:nvPr/>
          </p:nvPicPr>
          <p:blipFill>
            <a:blip r:embed="rId1"/>
            <a:stretch/>
          </p:blipFill>
          <p:spPr>
            <a:xfrm>
              <a:off x="1332000" y="3141720"/>
              <a:ext cx="69840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4"/>
            <p:cNvSpPr/>
            <p:nvPr/>
          </p:nvSpPr>
          <p:spPr>
            <a:xfrm>
              <a:off x="1403280" y="5013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2411280" y="2276640"/>
            <a:ext cx="825480" cy="2242440"/>
            <a:chOff x="2411280" y="2276640"/>
            <a:chExt cx="825480" cy="2242440"/>
          </a:xfrm>
        </p:grpSpPr>
        <p:pic>
          <p:nvPicPr>
            <p:cNvPr id="202" name="Picture 9" descr="16"/>
            <p:cNvPicPr/>
            <p:nvPr/>
          </p:nvPicPr>
          <p:blipFill>
            <a:blip r:embed="rId2"/>
            <a:stretch/>
          </p:blipFill>
          <p:spPr>
            <a:xfrm>
              <a:off x="2411280" y="2276640"/>
              <a:ext cx="825480" cy="18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16"/>
            <p:cNvSpPr/>
            <p:nvPr/>
          </p:nvSpPr>
          <p:spPr>
            <a:xfrm>
              <a:off x="2411280" y="4059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Group 19"/>
          <p:cNvGrpSpPr/>
          <p:nvPr/>
        </p:nvGrpSpPr>
        <p:grpSpPr>
          <a:xfrm>
            <a:off x="4716360" y="2492280"/>
            <a:ext cx="673200" cy="2272680"/>
            <a:chOff x="4716360" y="2492280"/>
            <a:chExt cx="673200" cy="2272680"/>
          </a:xfrm>
        </p:grpSpPr>
        <p:pic>
          <p:nvPicPr>
            <p:cNvPr id="205" name="Picture 10" descr="17"/>
            <p:cNvPicPr/>
            <p:nvPr/>
          </p:nvPicPr>
          <p:blipFill>
            <a:blip r:embed="rId3"/>
            <a:stretch/>
          </p:blipFill>
          <p:spPr>
            <a:xfrm>
              <a:off x="4716360" y="2492280"/>
              <a:ext cx="67320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18"/>
            <p:cNvSpPr/>
            <p:nvPr/>
          </p:nvSpPr>
          <p:spPr>
            <a:xfrm>
              <a:off x="4802040" y="43052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Group 21"/>
          <p:cNvGrpSpPr/>
          <p:nvPr/>
        </p:nvGrpSpPr>
        <p:grpSpPr>
          <a:xfrm>
            <a:off x="7451640" y="2205000"/>
            <a:ext cx="673200" cy="2259720"/>
            <a:chOff x="7451640" y="2205000"/>
            <a:chExt cx="673200" cy="2259720"/>
          </a:xfrm>
        </p:grpSpPr>
        <p:pic>
          <p:nvPicPr>
            <p:cNvPr id="208" name="Picture 11" descr="18"/>
            <p:cNvPicPr/>
            <p:nvPr/>
          </p:nvPicPr>
          <p:blipFill>
            <a:blip r:embed="rId4"/>
            <a:stretch/>
          </p:blipFill>
          <p:spPr>
            <a:xfrm>
              <a:off x="7451640" y="2205000"/>
              <a:ext cx="6732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20"/>
            <p:cNvSpPr/>
            <p:nvPr/>
          </p:nvSpPr>
          <p:spPr>
            <a:xfrm>
              <a:off x="7451640" y="40050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23"/>
          <p:cNvGrpSpPr/>
          <p:nvPr/>
        </p:nvGrpSpPr>
        <p:grpSpPr>
          <a:xfrm>
            <a:off x="6227640" y="2997360"/>
            <a:ext cx="787320" cy="2332800"/>
            <a:chOff x="6227640" y="2997360"/>
            <a:chExt cx="787320" cy="2332800"/>
          </a:xfrm>
        </p:grpSpPr>
        <p:pic>
          <p:nvPicPr>
            <p:cNvPr id="211" name="Picture 12" descr="Без имени-2"/>
            <p:cNvPicPr/>
            <p:nvPr/>
          </p:nvPicPr>
          <p:blipFill>
            <a:blip r:embed="rId5"/>
            <a:stretch/>
          </p:blipFill>
          <p:spPr>
            <a:xfrm>
              <a:off x="6227640" y="2997360"/>
              <a:ext cx="7873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22"/>
            <p:cNvSpPr/>
            <p:nvPr/>
          </p:nvSpPr>
          <p:spPr>
            <a:xfrm>
              <a:off x="6300720" y="48704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Group 25"/>
          <p:cNvGrpSpPr/>
          <p:nvPr/>
        </p:nvGrpSpPr>
        <p:grpSpPr>
          <a:xfrm>
            <a:off x="3708360" y="3357720"/>
            <a:ext cx="736560" cy="2259720"/>
            <a:chOff x="3708360" y="3357720"/>
            <a:chExt cx="736560" cy="2259720"/>
          </a:xfrm>
        </p:grpSpPr>
        <p:pic>
          <p:nvPicPr>
            <p:cNvPr id="214" name="Picture 13" descr="19"/>
            <p:cNvPicPr/>
            <p:nvPr/>
          </p:nvPicPr>
          <p:blipFill>
            <a:blip r:embed="rId6"/>
            <a:stretch/>
          </p:blipFill>
          <p:spPr>
            <a:xfrm>
              <a:off x="3708360" y="3357720"/>
              <a:ext cx="73656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24"/>
            <p:cNvSpPr/>
            <p:nvPr/>
          </p:nvSpPr>
          <p:spPr>
            <a:xfrm>
              <a:off x="3708360" y="515772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539640" y="1700280"/>
            <a:ext cx="8604360" cy="4143600"/>
            <a:chOff x="539640" y="1700280"/>
            <a:chExt cx="8604360" cy="4143600"/>
          </a:xfrm>
        </p:grpSpPr>
        <p:sp>
          <p:nvSpPr>
            <p:cNvPr id="217" name="Text Box 26"/>
            <p:cNvSpPr/>
            <p:nvPr/>
          </p:nvSpPr>
          <p:spPr>
            <a:xfrm>
              <a:off x="539640" y="530064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лосковогнут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 Box 27"/>
            <p:cNvSpPr/>
            <p:nvPr/>
          </p:nvSpPr>
          <p:spPr>
            <a:xfrm>
              <a:off x="1763640" y="1700280"/>
              <a:ext cx="24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двояк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28"/>
            <p:cNvSpPr/>
            <p:nvPr/>
          </p:nvSpPr>
          <p:spPr>
            <a:xfrm>
              <a:off x="2987640" y="5445000"/>
              <a:ext cx="23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лоск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29"/>
            <p:cNvSpPr/>
            <p:nvPr/>
          </p:nvSpPr>
          <p:spPr>
            <a:xfrm>
              <a:off x="4140360" y="1989000"/>
              <a:ext cx="23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двояковогнут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30"/>
            <p:cNvSpPr/>
            <p:nvPr/>
          </p:nvSpPr>
          <p:spPr>
            <a:xfrm>
              <a:off x="5724360" y="515772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выпукловогнут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31"/>
            <p:cNvSpPr/>
            <p:nvPr/>
          </p:nvSpPr>
          <p:spPr>
            <a:xfrm>
              <a:off x="6443640" y="1844640"/>
              <a:ext cx="27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вогнут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1094-4251-45BE-B61F-FF12F95F122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3. Под какими номерами изображены рассеивающие линзы?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 правильный ответ – 6 баллов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1332000" y="3141720"/>
            <a:ext cx="698400" cy="2331360"/>
            <a:chOff x="1332000" y="3141720"/>
            <a:chExt cx="698400" cy="2331360"/>
          </a:xfrm>
        </p:grpSpPr>
        <p:pic>
          <p:nvPicPr>
            <p:cNvPr id="226" name="Picture 4" descr="15"/>
            <p:cNvPicPr/>
            <p:nvPr/>
          </p:nvPicPr>
          <p:blipFill>
            <a:blip r:embed="rId1"/>
            <a:stretch/>
          </p:blipFill>
          <p:spPr>
            <a:xfrm>
              <a:off x="1332000" y="3141720"/>
              <a:ext cx="69840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403280" y="5013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Group 9"/>
          <p:cNvGrpSpPr/>
          <p:nvPr/>
        </p:nvGrpSpPr>
        <p:grpSpPr>
          <a:xfrm>
            <a:off x="4716360" y="2492280"/>
            <a:ext cx="673200" cy="2272680"/>
            <a:chOff x="4716360" y="2492280"/>
            <a:chExt cx="673200" cy="2272680"/>
          </a:xfrm>
        </p:grpSpPr>
        <p:pic>
          <p:nvPicPr>
            <p:cNvPr id="229" name="Picture 10" descr="17"/>
            <p:cNvPicPr/>
            <p:nvPr/>
          </p:nvPicPr>
          <p:blipFill>
            <a:blip r:embed="rId2"/>
            <a:stretch/>
          </p:blipFill>
          <p:spPr>
            <a:xfrm>
              <a:off x="4716360" y="2492280"/>
              <a:ext cx="67320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1"/>
            <p:cNvSpPr/>
            <p:nvPr/>
          </p:nvSpPr>
          <p:spPr>
            <a:xfrm>
              <a:off x="4802040" y="43052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Group 15"/>
          <p:cNvGrpSpPr/>
          <p:nvPr/>
        </p:nvGrpSpPr>
        <p:grpSpPr>
          <a:xfrm>
            <a:off x="6227640" y="2997360"/>
            <a:ext cx="787320" cy="2332800"/>
            <a:chOff x="6227640" y="2997360"/>
            <a:chExt cx="787320" cy="2332800"/>
          </a:xfrm>
        </p:grpSpPr>
        <p:pic>
          <p:nvPicPr>
            <p:cNvPr id="232" name="Picture 16" descr="Без имени-2"/>
            <p:cNvPicPr/>
            <p:nvPr/>
          </p:nvPicPr>
          <p:blipFill>
            <a:blip r:embed="rId3"/>
            <a:stretch/>
          </p:blipFill>
          <p:spPr>
            <a:xfrm>
              <a:off x="6227640" y="2997360"/>
              <a:ext cx="7873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7"/>
            <p:cNvSpPr/>
            <p:nvPr/>
          </p:nvSpPr>
          <p:spPr>
            <a:xfrm>
              <a:off x="6300720" y="48704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Group 28"/>
          <p:cNvGrpSpPr/>
          <p:nvPr/>
        </p:nvGrpSpPr>
        <p:grpSpPr>
          <a:xfrm>
            <a:off x="2411280" y="2205000"/>
            <a:ext cx="5713560" cy="3412440"/>
            <a:chOff x="2411280" y="2205000"/>
            <a:chExt cx="5713560" cy="3412440"/>
          </a:xfrm>
        </p:grpSpPr>
        <p:grpSp>
          <p:nvGrpSpPr>
            <p:cNvPr id="235" name="Group 6"/>
            <p:cNvGrpSpPr/>
            <p:nvPr/>
          </p:nvGrpSpPr>
          <p:grpSpPr>
            <a:xfrm>
              <a:off x="2411280" y="2276640"/>
              <a:ext cx="825480" cy="2242440"/>
              <a:chOff x="2411280" y="2276640"/>
              <a:chExt cx="825480" cy="2242440"/>
            </a:xfrm>
          </p:grpSpPr>
          <p:pic>
            <p:nvPicPr>
              <p:cNvPr id="236" name="Picture 7" descr="16"/>
              <p:cNvPicPr/>
              <p:nvPr/>
            </p:nvPicPr>
            <p:blipFill>
              <a:blip r:embed="rId4"/>
              <a:stretch/>
            </p:blipFill>
            <p:spPr>
              <a:xfrm>
                <a:off x="2411280" y="2276640"/>
                <a:ext cx="825480" cy="187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Text Box 8"/>
              <p:cNvSpPr/>
              <p:nvPr/>
            </p:nvSpPr>
            <p:spPr>
              <a:xfrm>
                <a:off x="2411280" y="4059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2"/>
            <p:cNvGrpSpPr/>
            <p:nvPr/>
          </p:nvGrpSpPr>
          <p:grpSpPr>
            <a:xfrm>
              <a:off x="7451640" y="2205000"/>
              <a:ext cx="673200" cy="2259720"/>
              <a:chOff x="7451640" y="2205000"/>
              <a:chExt cx="673200" cy="2259720"/>
            </a:xfrm>
          </p:grpSpPr>
          <p:pic>
            <p:nvPicPr>
              <p:cNvPr id="239" name="Picture 13" descr="18"/>
              <p:cNvPicPr/>
              <p:nvPr/>
            </p:nvPicPr>
            <p:blipFill>
              <a:blip r:embed="rId5"/>
              <a:stretch/>
            </p:blipFill>
            <p:spPr>
              <a:xfrm>
                <a:off x="7451640" y="2205000"/>
                <a:ext cx="673200" cy="19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Text Box 14"/>
              <p:cNvSpPr/>
              <p:nvPr/>
            </p:nvSpPr>
            <p:spPr>
              <a:xfrm>
                <a:off x="7451640" y="400500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8"/>
            <p:cNvGrpSpPr/>
            <p:nvPr/>
          </p:nvGrpSpPr>
          <p:grpSpPr>
            <a:xfrm>
              <a:off x="3708360" y="3357720"/>
              <a:ext cx="736560" cy="2259720"/>
              <a:chOff x="3708360" y="3357720"/>
              <a:chExt cx="736560" cy="2259720"/>
            </a:xfrm>
          </p:grpSpPr>
          <p:pic>
            <p:nvPicPr>
              <p:cNvPr id="242" name="Picture 19" descr="19"/>
              <p:cNvPicPr/>
              <p:nvPr/>
            </p:nvPicPr>
            <p:blipFill>
              <a:blip r:embed="rId6"/>
              <a:stretch/>
            </p:blipFill>
            <p:spPr>
              <a:xfrm>
                <a:off x="3708360" y="3357720"/>
                <a:ext cx="736560" cy="19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Text Box 20"/>
              <p:cNvSpPr/>
              <p:nvPr/>
            </p:nvSpPr>
            <p:spPr>
              <a:xfrm>
                <a:off x="3708360" y="515772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64 -0.01389 C 0.13264 -0.04723 0.23264 -0.08033 0.27448 -0.09561 C 0.31632 -0.11088 0.30018 -0.10857 0.28421 -0.10625 E">
                                      <p:cBhvr>
                                        <p:cTn id="16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1.11111E-006 C -0.00607 0.01204 -0.00954 0.00833 -0.021 0.00648 C -0.02985 0.00255 -0.03888 -0.00185 -0.04687 -0.00856 C -0.04947 -0.02361 -0.04617 -0.01181 -0.05329 -0.02384 C -0.05572 -0.02778 -0.05972 -0.03657 -0.05972 -0.03657 C -0.06249 -0.04815 -0.06197 -0.05417 -0.071 -0.0581 C -0.07256 -0.05949 -0.07708 -0.06042 -0.07586 -0.0625 C -0.07378 -0.0662 -0.06614 -0.06667 -0.06614 -0.06667 C -0.06406 -0.07523 -0.06458 -0.07083 -0.06458 -0.07963 E">
                                      <p:cBhvr>
                                        <p:cTn id="18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7079-5C69-4CCE-A1B9-6A3206796FE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7" descr="20"/>
          <p:cNvPicPr/>
          <p:nvPr/>
        </p:nvPicPr>
        <p:blipFill>
          <a:blip r:embed="rId1"/>
          <a:stretch/>
        </p:blipFill>
        <p:spPr>
          <a:xfrm>
            <a:off x="1285920" y="2928960"/>
            <a:ext cx="4105080" cy="35002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8"/>
          <p:cNvSpPr/>
          <p:nvPr/>
        </p:nvSpPr>
        <p:spPr>
          <a:xfrm>
            <a:off x="826920" y="333360"/>
            <a:ext cx="77058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 Какая линза изображена на рисунк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. Как называется точк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. Как называется точка 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. Как называется отрезок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. Фокусы линзы в данном случае мнимые или действительны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6443640" y="4149720"/>
            <a:ext cx="22320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каждый правильный ответ – 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A64D-5C52-4BF4-AF9A-18C437D8F70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1547640" y="112536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ие характеристики линз Вы знает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2340000" y="2492280"/>
            <a:ext cx="4176720" cy="936720"/>
            <a:chOff x="2340000" y="2492280"/>
            <a:chExt cx="4176720" cy="936720"/>
          </a:xfrm>
        </p:grpSpPr>
        <p:sp>
          <p:nvSpPr>
            <p:cNvPr id="251" name="Line 4"/>
            <p:cNvSpPr/>
            <p:nvPr/>
          </p:nvSpPr>
          <p:spPr>
            <a:xfrm flipH="1">
              <a:off x="2340000" y="2492280"/>
              <a:ext cx="180000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>
              <a:off x="4572000" y="2492280"/>
              <a:ext cx="194472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8"/>
          <p:cNvGrpSpPr/>
          <p:nvPr/>
        </p:nvGrpSpPr>
        <p:grpSpPr>
          <a:xfrm>
            <a:off x="395280" y="3645000"/>
            <a:ext cx="8208720" cy="520560"/>
            <a:chOff x="395280" y="3645000"/>
            <a:chExt cx="8208720" cy="520560"/>
          </a:xfrm>
        </p:grpSpPr>
        <p:sp>
          <p:nvSpPr>
            <p:cNvPr id="254" name="Text Box 6"/>
            <p:cNvSpPr/>
            <p:nvPr/>
          </p:nvSpPr>
          <p:spPr>
            <a:xfrm>
              <a:off x="395280" y="3645000"/>
              <a:ext cx="41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Фокусное расстоя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7"/>
            <p:cNvSpPr/>
            <p:nvPr/>
          </p:nvSpPr>
          <p:spPr>
            <a:xfrm>
              <a:off x="5148000" y="3645000"/>
              <a:ext cx="34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Оптическая сил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823A-C046-4442-9AA0-089F7F5E9F8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айте ответы на предложенные ниже вопросы (за активную работу – 5 баллов)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 определить фокусное расстояние линзы, если известна ее оптическая сил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 определить оптическую силу системы двух плотно прижатых друг к другу тонких линз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кажите единицы измерения фокусного расстояния и оптической силы линз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225F-00F0-4DE6-B8AC-A92FF0B6C05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Решите предложенные ниже задачи: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му равно фокусное расстояние линзы с оптической силой, равной -25 дптр? Какого вида эта линз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ределите фокусное расстояние системы двух плотно прижатых друг к другу тонких линз, если фокусное расстояние одной из линз равно 25 см, а второй – 40 с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368B-7057-4B4F-A005-A40422A712B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66"/>
                </a:solidFill>
                <a:latin typeface="Arial"/>
              </a:rPr>
              <a:t>Подведение итогов урок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Оцени свою работу на уроке, для чего подсчитай общее количество набранных баллов, включая ответы тестового опрос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Если в сумме получилос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16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1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балла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3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2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7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баллов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4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8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31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балла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5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ru-RU" sz="3500" spc="-1" strike="noStrike">
                <a:solidFill>
                  <a:srgbClr val="ff3300"/>
                </a:solidFill>
                <a:latin typeface="Arial"/>
              </a:rPr>
              <a:t>Домашнее задание: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§34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, конспект + вопросы к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§3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*№141 - 14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re_48"/>
          <p:cNvPicPr/>
          <p:nvPr/>
        </p:nvPicPr>
        <p:blipFill>
          <a:blip r:embed="rId1"/>
          <a:stretch/>
        </p:blipFill>
        <p:spPr>
          <a:xfrm>
            <a:off x="533520" y="380880"/>
            <a:ext cx="525240" cy="1295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rupor"/>
          <p:cNvPicPr/>
          <p:nvPr/>
        </p:nvPicPr>
        <p:blipFill>
          <a:blip r:embed="rId2"/>
          <a:stretch/>
        </p:blipFill>
        <p:spPr>
          <a:xfrm>
            <a:off x="533520" y="4532400"/>
            <a:ext cx="892080" cy="42228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6"/>
          <p:cNvSpPr/>
          <p:nvPr/>
        </p:nvSpPr>
        <p:spPr>
          <a:xfrm>
            <a:off x="8748720" y="6426360"/>
            <a:ext cx="395280" cy="431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31640"/>
              <a:gd name="textAreaBottom" fmla="*/ 406080 h 431640"/>
            </a:gdLst>
            <a:ahLst/>
            <a:rect l="textAreaLeft" t="textAreaTop" r="textAreaRight" b="textAreaBottom"/>
            <a:pathLst>
              <a:path w="21600" h="23585">
                <a:moveTo>
                  <a:pt x="0" y="0"/>
                </a:moveTo>
                <a:lnTo>
                  <a:pt x="21600" y="0"/>
                </a:lnTo>
                <a:lnTo>
                  <a:pt x="21600" y="23585"/>
                </a:lnTo>
                <a:lnTo>
                  <a:pt x="0" y="23585"/>
                </a:lnTo>
                <a:close/>
              </a:path>
              <a:path fill="lightenLess" w="21600" h="23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85">
                <a:moveTo>
                  <a:pt x="21600" y="0"/>
                </a:moveTo>
                <a:lnTo>
                  <a:pt x="21600" y="23585"/>
                </a:lnTo>
                <a:lnTo>
                  <a:pt x="20200" y="22185"/>
                </a:lnTo>
                <a:lnTo>
                  <a:pt x="20200" y="1400"/>
                </a:lnTo>
                <a:close/>
              </a:path>
              <a:path fill="darkenLess" w="21600" h="23585">
                <a:moveTo>
                  <a:pt x="21600" y="23585"/>
                </a:moveTo>
                <a:lnTo>
                  <a:pt x="0" y="23585"/>
                </a:lnTo>
                <a:lnTo>
                  <a:pt x="1400" y="22185"/>
                </a:lnTo>
                <a:lnTo>
                  <a:pt x="20200" y="22185"/>
                </a:lnTo>
                <a:close/>
              </a:path>
              <a:path fill="lighten" w="21600" h="23585">
                <a:moveTo>
                  <a:pt x="0" y="23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85"/>
                </a:lnTo>
                <a:close/>
              </a:path>
              <a:path fill="darken" w="21600" h="23585">
                <a:moveTo>
                  <a:pt x="10800" y="4830"/>
                </a:moveTo>
                <a:lnTo>
                  <a:pt x="13376" y="7441"/>
                </a:lnTo>
                <a:lnTo>
                  <a:pt x="13376" y="5700"/>
                </a:lnTo>
                <a:lnTo>
                  <a:pt x="15152" y="5700"/>
                </a:lnTo>
                <a:lnTo>
                  <a:pt x="15152" y="9216"/>
                </a:lnTo>
                <a:lnTo>
                  <a:pt x="17763" y="11793"/>
                </a:lnTo>
                <a:lnTo>
                  <a:pt x="16109" y="11793"/>
                </a:lnTo>
                <a:lnTo>
                  <a:pt x="16109" y="18982"/>
                </a:lnTo>
                <a:lnTo>
                  <a:pt x="5491" y="18982"/>
                </a:lnTo>
                <a:lnTo>
                  <a:pt x="5491" y="11793"/>
                </a:lnTo>
                <a:lnTo>
                  <a:pt x="3837" y="11793"/>
                </a:lnTo>
                <a:close/>
              </a:path>
              <a:path fill="darkenLess" w="21600" h="23585">
                <a:moveTo>
                  <a:pt x="13376" y="7441"/>
                </a:moveTo>
                <a:lnTo>
                  <a:pt x="13376" y="5700"/>
                </a:lnTo>
                <a:lnTo>
                  <a:pt x="15152" y="5700"/>
                </a:lnTo>
                <a:lnTo>
                  <a:pt x="15152" y="9216"/>
                </a:lnTo>
                <a:close/>
              </a:path>
              <a:path fill="darkenLess" w="21600" h="23585">
                <a:moveTo>
                  <a:pt x="9877" y="15291"/>
                </a:moveTo>
                <a:lnTo>
                  <a:pt x="11723" y="15291"/>
                </a:lnTo>
                <a:lnTo>
                  <a:pt x="11723" y="18982"/>
                </a:lnTo>
                <a:lnTo>
                  <a:pt x="16109" y="18982"/>
                </a:lnTo>
                <a:lnTo>
                  <a:pt x="16109" y="11793"/>
                </a:lnTo>
                <a:lnTo>
                  <a:pt x="5491" y="11793"/>
                </a:lnTo>
                <a:lnTo>
                  <a:pt x="5491" y="18982"/>
                </a:lnTo>
                <a:lnTo>
                  <a:pt x="9877" y="18982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CEA8-4431-4BAF-A723-69BF9585EC5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Линзы. Оптическая сила линзы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1692360" y="227664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верка те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1692360" y="314172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92360" y="400536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репление изучен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1692360" y="486900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ведение итогов ур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5D3B-5E4D-442A-B7F7-500D4FF5EAA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Ответы на тестовые задания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8"/>
              <p:cNvSpPr txBox="1"/>
              <p:nvPr/>
            </p:nvSpPr>
            <p:spPr>
              <a:xfrm>
                <a:off x="8028000" y="3213000"/>
                <a:ext cx="8557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2" name=""/>
          <p:cNvGraphicFramePr/>
          <p:nvPr/>
        </p:nvGraphicFramePr>
        <p:xfrm>
          <a:off x="395280" y="1341360"/>
          <a:ext cx="8424720" cy="2303640"/>
        </p:xfrm>
        <a:graphic>
          <a:graphicData uri="http://schemas.openxmlformats.org/drawingml/2006/table">
            <a:tbl>
              <a:tblPr/>
              <a:tblGrid>
                <a:gridCol w="2587680"/>
                <a:gridCol w="554040"/>
                <a:gridCol w="555480"/>
                <a:gridCol w="603360"/>
                <a:gridCol w="650880"/>
                <a:gridCol w="649440"/>
                <a:gridCol w="647640"/>
                <a:gridCol w="703080"/>
                <a:gridCol w="736560"/>
                <a:gridCol w="736560"/>
              </a:tblGrid>
              <a:tr h="5050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 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95280" y="3860640"/>
          <a:ext cx="8424720" cy="2297160"/>
        </p:xfrm>
        <a:graphic>
          <a:graphicData uri="http://schemas.openxmlformats.org/drawingml/2006/table">
            <a:tbl>
              <a:tblPr/>
              <a:tblGrid>
                <a:gridCol w="2587680"/>
                <a:gridCol w="554040"/>
                <a:gridCol w="555480"/>
                <a:gridCol w="601920"/>
                <a:gridCol w="650880"/>
                <a:gridCol w="649080"/>
                <a:gridCol w="649440"/>
                <a:gridCol w="703080"/>
                <a:gridCol w="736560"/>
                <a:gridCol w="736560"/>
              </a:tblGrid>
              <a:tr h="5104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 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Object 158"/>
              <p:cNvSpPr txBox="1"/>
              <p:nvPr/>
            </p:nvSpPr>
            <p:spPr>
              <a:xfrm>
                <a:off x="8101080" y="5734080"/>
                <a:ext cx="6476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AutoShape 159"/>
          <p:cNvSpPr/>
          <p:nvPr/>
        </p:nvSpPr>
        <p:spPr>
          <a:xfrm>
            <a:off x="871056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ED19-7C9D-42F4-81C7-CB9C5112CA7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ое явление называется преломлением света? В чем его суть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Что называют абсолютным показателем преломления сред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каком случае угол падения светового луча равен углу преломлени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ой угол: падения или преломления будет больше при переходе луча света из воздуха в стекл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формулируйте закон отражения све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чему находясь в лодке, трудно попасть копьем в рыбу, плавающую невдалеке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871056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7FCC-706B-4497-A9E6-032D2401597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6" descr="1"/>
          <p:cNvPicPr/>
          <p:nvPr/>
        </p:nvPicPr>
        <p:blipFill>
          <a:blip r:embed="rId1"/>
          <a:stretch/>
        </p:blipFill>
        <p:spPr>
          <a:xfrm>
            <a:off x="2643120" y="642960"/>
            <a:ext cx="3932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DEB8-811D-409D-A0D8-BAB7E300DEC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Линзы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10" descr="4"/>
          <p:cNvPicPr/>
          <p:nvPr/>
        </p:nvPicPr>
        <p:blipFill>
          <a:blip r:embed="rId1"/>
          <a:stretch/>
        </p:blipFill>
        <p:spPr>
          <a:xfrm>
            <a:off x="457200" y="2492280"/>
            <a:ext cx="4038480" cy="2881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5"/>
          <p:cNvPicPr/>
          <p:nvPr/>
        </p:nvPicPr>
        <p:blipFill>
          <a:blip r:embed="rId2"/>
          <a:stretch/>
        </p:blipFill>
        <p:spPr>
          <a:xfrm>
            <a:off x="4648320" y="2475000"/>
            <a:ext cx="4038480" cy="2900160"/>
          </a:xfrm>
          <a:prstGeom prst="rect">
            <a:avLst/>
          </a:prstGeom>
          <a:ln w="0">
            <a:noFill/>
          </a:ln>
        </p:spPr>
      </p:pic>
      <p:sp>
        <p:nvSpPr>
          <p:cNvPr id="176" name="Line 12"/>
          <p:cNvSpPr/>
          <p:nvPr/>
        </p:nvSpPr>
        <p:spPr>
          <a:xfrm flipH="1">
            <a:off x="4571640" y="1628640"/>
            <a:ext cx="3240" cy="43214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32ED-D829-4CE4-9D50-626D20FDB9B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6" descr="12"/>
          <p:cNvPicPr/>
          <p:nvPr/>
        </p:nvPicPr>
        <p:blipFill>
          <a:blip r:embed="rId1"/>
          <a:stretch/>
        </p:blipFill>
        <p:spPr>
          <a:xfrm>
            <a:off x="2428920" y="500040"/>
            <a:ext cx="411948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8CD6-1AC2-4F17-B4C2-457DF2FD113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Тонкая линз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7" descr="11"/>
          <p:cNvPicPr/>
          <p:nvPr/>
        </p:nvPicPr>
        <p:blipFill>
          <a:blip r:embed="rId1"/>
          <a:stretch/>
        </p:blipFill>
        <p:spPr>
          <a:xfrm>
            <a:off x="2484360" y="1628640"/>
            <a:ext cx="40165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83D6-28ED-4D0D-8309-88670B49CD7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7" descr="2"/>
          <p:cNvPicPr/>
          <p:nvPr/>
        </p:nvPicPr>
        <p:blipFill>
          <a:blip r:embed="rId1"/>
          <a:stretch/>
        </p:blipFill>
        <p:spPr>
          <a:xfrm>
            <a:off x="324000" y="198900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3"/>
          <p:cNvPicPr/>
          <p:nvPr/>
        </p:nvPicPr>
        <p:blipFill>
          <a:blip r:embed="rId2"/>
          <a:stretch/>
        </p:blipFill>
        <p:spPr>
          <a:xfrm>
            <a:off x="4716360" y="1989000"/>
            <a:ext cx="4038840" cy="2714760"/>
          </a:xfrm>
          <a:prstGeom prst="rect">
            <a:avLst/>
          </a:prstGeom>
          <a:ln w="0">
            <a:noFill/>
          </a:ln>
        </p:spPr>
      </p:pic>
      <p:sp>
        <p:nvSpPr>
          <p:cNvPr id="185" name="Line 9"/>
          <p:cNvSpPr/>
          <p:nvPr/>
        </p:nvSpPr>
        <p:spPr>
          <a:xfrm flipH="1">
            <a:off x="4530240" y="1052640"/>
            <a:ext cx="3240" cy="4321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1:36:32Z</dcterms:created>
  <dc:creator>Solovjev</dc:creator>
  <dc:description/>
  <dc:language>en-US</dc:language>
  <cp:lastModifiedBy>Teacher</cp:lastModifiedBy>
  <dcterms:modified xsi:type="dcterms:W3CDTF">2013-03-11T14:12:24Z</dcterms:modified>
  <cp:revision>12</cp:revision>
  <dc:subject/>
  <dc:title>Слайд 1</dc:title>
</cp:coreProperties>
</file>